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3159000"/>
            <a:ext cx="84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Тема 1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Вводная лекц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Понятие «информация»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едеральный закон «Об информации, информационных технологиях и  защите информации» дает следующее определение информ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формация — сведения (сообщения, данные) независимо от формы их представления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Способы документирования (способы фиксации информации)</a:t>
            </a: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ы документирования — запись информации на различных носителях по установленным правил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волюция материалов на которых закрепляли информацию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древности высекались на камне, стенах пирамид (Египе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переписки применяли глиняные и деревянные дощечки, папирус, пергамент, бума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ХIХ века фото-документы, фоно-документы, кинодокумен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Х века магнитные ленты, цифровые носители информ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Документ — элемент внутренней организации любого учреждения, предприятия, фирмы.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31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формация являет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анием для принятия управленческих реш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казательств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чником для обобщ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ериалом справочно-поисковой раб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Документирование информации позволяет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фиксировать ее на определенном носител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дать ей необходимую организационную форм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достоверить подлинность и юридическую силу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абдить необходимыми реквизитами для ее идентификации в целях поиска и использо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уществить полноценную информационную поддержку управленческих процессо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копить информационный ресурс в целях развития организации и сохранения индивидуальной памяти о ней во времени и пространств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ли  и задачи курса «Организация и технология документационного обеспечения управления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Понятие и развитие термина «делопроизводство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Что в себя включает современное делопроизводств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Термин «делопроизводство» и «документационное обеспечение управления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Какие основные понятия используются в курсе «Организация и технология документационного обеспечения управления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9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.    Белов А.А., Белов А.Н. Делопроизводство и документооборот. – М.: Кн. мир: 2008.– 34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4.    Организация работы с документами. Учебник для вузов. Под ред. В.А. Кудряева. – М., 200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5.    Санкина Л.В. Делопроизводство в коммерческой организации: на примере акционерного общества.- М.: Изд-во МЦФЭР: 2009.-432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6.     ГОСТ Р51141-98 Делопроизводство и архивное дело: Термины и определения.– М.: Издательство стандартов, 1998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7.     Федеральный закон от 29 июля 2006 г. «Об информации, информационных технологиях и о защите информации» // Российская газета от 30 июля 2006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2BFE-B255-413F-A770-4B779E66959B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F3BB-F183-40CB-9E31-CECE87959F25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Цель курса «Организация и технология документационного обеспечения управления»: </a:t>
            </a: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2260440"/>
            <a:ext cx="82296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вляется углубленное изучение особенностей формирования и развития систем национального делопроизводства в различные исторические периоды и ознакомление с теорией и практикой организации современного документационного обеспечения на основе научно обоснованных принципов и методов его совершенство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Задачи курса </a:t>
            </a:r>
            <a:br>
              <a:rPr sz="2400"/>
            </a:b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«Организация и технология документационного обеспечения управления»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следить становление и развитие понятий «делопроизводство» и «документационное обеспечение управления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ветить место делопроизводства в процессах управл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знакомить с историей развития системы государственного делопроизводств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формировать у студентов рациональные подходы к решению задач организации работы с документами в учрежден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знакомить студентов с современными типовыми структурами служб ДО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учить современные технологии документационного обеспечения управ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В результате изучения курса «Организация и технология документационного обеспечения управления» студент должен знать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нденции развития делопроизводства в государственном аппарате управления в различные исторические период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обенности формирования структуры, функций, штатного состава делопроизводственных подразделений и обязанности служащих в различные исторические период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висимость организации работы с документами от развития аппарата управле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 и технологию обработки документов на основе использования средств организационной и вычислительной техник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ременные направления развития и пути совершенствования документационного обеспечения управлени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научные и практические проблемы организации документационного обеспечения управле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ативно-методические документы, регламентирующие документационное обеспечение управле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омерности изменения объёма документооборот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циональную технологию приёма, прохождения, подготовки и отправления документов в традиционных и автоматизированных системах документационного обеспечения управле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ебования к ручным и автоматизированным информационно-поисковым системам (ИПС) по документам организаций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ику контроля за сроками исполнения документов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ику составления классификационных справочников (номенклатура дел, классификаторы различных видов, перечень документов со сроками хранения) и направления их использова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рганизацию оперативного хранения документов и подготовки документов к передаче в ведомственный архив (включая экспертизу ценности документов, оформление дел, составление описей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Студент должен уметь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нифицировать и проектировать формы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формлять документы в соответствии с требованиями государственных стандар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дрять унифицированные формы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ределять историческую и практическую ценность докумен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Приступая к изучению курса, прежде всего следует ознакомиться с основными профессиональными терминами и определениями постоянно встречающимися в работе с документами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785960"/>
            <a:ext cx="822960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c000"/>
                </a:solidFill>
                <a:latin typeface="Arial"/>
              </a:rPr>
              <a:t>Делопроизводств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- отрасль деятельности, обеспечивающая документирование и организацию работы с официальными документ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воначально термин появился в устной речи (предположительно в XVIII в.) и означал процесс решения (производства) дела: "дело производить - решать вопрос. В ходе решения возникла необходимость закрепления результата, например, достигнутой договоренности". Для этого издревле издавали документы, т.к. устное слово кратковременно, могло быть забыто, искажено при передаче или не так понят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же в XVI в. употребляется слово дело как собрание документов, относящихся к какому-либо вопросу. Впервые в этом понятии слово "дело" зафиксировано в документах в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584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000"/>
                </a:solidFill>
                <a:latin typeface="Arial"/>
              </a:rPr>
              <a:t>Современное делопроизводство включает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беспечение своевременного и правильного создания документов (документирование)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ацию работы с документами (получение, передача, обработка, учет, регистрация, контроль, хранение, систематизация, подготовка документов для сдачи в архив, уничтожение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Параллельно с термином "делопроизводство" в последние десятилетия используется термин </a:t>
            </a: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документационное обеспечение управления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66220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го появление связано с внедрением в управление компьютерных систем. Термины "делопроизводство" и "ДОУ" являются синонимами и применяются для обозначения одной и той же деятель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Основные понятия курса  «Организация и технология документационного обеспечения управления» .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Организация работы с документами -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это обеспечение движения документов в аппарате управления, их использования в справочных целях и хран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Документооборот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движение документов в организации с момента их создания или получения до завершения исполнения или отправл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В технологию работ с документами входит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ем и первичная обработка документов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х предварительное рассмотрение и распределение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егистрация документов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нформационно-справочная работа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х справка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истематизация (формирование дел) и текущее хранение документов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Регистраци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- запись учетных данных о документе по установленной форме, фиксирующая факт его создания, отправления или получения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Контроль исполнения документов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совокупность действий, обеспечивающих их современное исполнени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Формирование дела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группирование исполненных документов в дело в соответствии с номенклатурой дел (систематизированным перечнем наименований дел, завозить в организации, с указанием сроков их хранения, оформленным в установленном порядке) и систематизация документов внутри дел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05T10:30:59Z</dcterms:modified>
  <cp:revision>121</cp:revision>
  <dc:subject/>
  <dc:title>Lecture Template </dc:title>
</cp:coreProperties>
</file>